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10.png" ContentType="image/png"/>
  <Override PartName="/ppt/media/image6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3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C370EA-8E5B-479F-9721-7E3B653DA01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CB8F38-45EA-4E82-A07A-56C62D392FB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FEE628-3175-4355-A438-CE4C2266A21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71710F-2449-4A6D-A85E-11A5D5A9321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3cfe0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624852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119700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" name="Picture 44" descr=""/>
          <p:cNvPicPr/>
          <p:nvPr/>
        </p:nvPicPr>
        <p:blipFill>
          <a:blip r:embed="rId2"/>
          <a:stretch/>
        </p:blipFill>
        <p:spPr>
          <a:xfrm>
            <a:off x="0" y="6265800"/>
            <a:ext cx="1352520" cy="592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46"/>
          <p:cNvSpPr/>
          <p:nvPr/>
        </p:nvSpPr>
        <p:spPr>
          <a:xfrm>
            <a:off x="3224160" y="6264360"/>
            <a:ext cx="756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Superintendência de Apoio a Gestão de Recursos Hídricos - S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" name="Group 47"/>
          <p:cNvGrpSpPr/>
          <p:nvPr/>
        </p:nvGrpSpPr>
        <p:grpSpPr>
          <a:xfrm>
            <a:off x="0" y="-27000"/>
            <a:ext cx="9921960" cy="1249200"/>
            <a:chOff x="0" y="-27000"/>
            <a:chExt cx="9921960" cy="1249200"/>
          </a:xfrm>
        </p:grpSpPr>
        <p:pic>
          <p:nvPicPr>
            <p:cNvPr id="6" name="Picture 48" descr="penedo1"/>
            <p:cNvPicPr/>
            <p:nvPr/>
          </p:nvPicPr>
          <p:blipFill>
            <a:blip r:embed="rId3"/>
            <a:stretch/>
          </p:blipFill>
          <p:spPr>
            <a:xfrm>
              <a:off x="4016520" y="-27000"/>
              <a:ext cx="18730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9" descr="pa%E7u1"/>
            <p:cNvPicPr/>
            <p:nvPr/>
          </p:nvPicPr>
          <p:blipFill>
            <a:blip r:embed="rId4"/>
            <a:stretch/>
          </p:blipFill>
          <p:spPr>
            <a:xfrm>
              <a:off x="1208160" y="-27000"/>
              <a:ext cx="187308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50" descr="pi02"/>
            <p:cNvPicPr/>
            <p:nvPr/>
          </p:nvPicPr>
          <p:blipFill>
            <a:blip r:embed="rId5"/>
            <a:stretch/>
          </p:blipFill>
          <p:spPr>
            <a:xfrm>
              <a:off x="2649600" y="-27000"/>
              <a:ext cx="172872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51" descr="passaros"/>
            <p:cNvPicPr/>
            <p:nvPr/>
          </p:nvPicPr>
          <p:blipFill>
            <a:blip r:embed="rId6"/>
            <a:stretch/>
          </p:blipFill>
          <p:spPr>
            <a:xfrm>
              <a:off x="5745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52" descr="pi04"/>
            <p:cNvPicPr/>
            <p:nvPr/>
          </p:nvPicPr>
          <p:blipFill>
            <a:blip r:embed="rId7"/>
            <a:stretch/>
          </p:blipFill>
          <p:spPr>
            <a:xfrm>
              <a:off x="6824520" y="-27000"/>
              <a:ext cx="14414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53" descr="rio16"/>
            <p:cNvPicPr/>
            <p:nvPr/>
          </p:nvPicPr>
          <p:blipFill>
            <a:blip r:embed="rId8"/>
            <a:stretch/>
          </p:blipFill>
          <p:spPr>
            <a:xfrm>
              <a:off x="0" y="-27000"/>
              <a:ext cx="1763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54" descr="rio1"/>
            <p:cNvPicPr/>
            <p:nvPr/>
          </p:nvPicPr>
          <p:blipFill>
            <a:blip r:embed="rId9"/>
            <a:stretch/>
          </p:blipFill>
          <p:spPr>
            <a:xfrm>
              <a:off x="8193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>
              <a:spcBef>
                <a:spcPts val="34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00160" y="2038320"/>
            <a:ext cx="93596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3366"/>
                </a:solidFill>
                <a:latin typeface="Tahoma"/>
              </a:rPr>
              <a:t>Nota Técnica da ANA para subsidiar a definição pelo CNRH dos valores a serem cobrados pelo uso de recursos hídricos em corpos d’água de domínio da União, com base nos mecanismos e quantitativos sugeridos pelo CBHSF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66680" y="5286240"/>
            <a:ext cx="464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CTCOB/CNRH, 24 de fevereiro de 201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Retângulo 3"/>
          <p:cNvSpPr/>
          <p:nvPr/>
        </p:nvSpPr>
        <p:spPr>
          <a:xfrm>
            <a:off x="523800" y="434016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Tahoma"/>
              </a:rPr>
              <a:t>GECOB/SA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305520" y="4605480"/>
            <a:ext cx="32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Na bacia do rio Paraíba do Sul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1200240" y="5038560"/>
            <a:ext cx="7569000" cy="10544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-160200" y="1341360"/>
            <a:ext cx="1020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Impactos sobre usuários internos</a:t>
            </a:r>
            <a:endParaRPr b="0" lang="en-US" sz="23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309600" y="2000160"/>
            <a:ext cx="9286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2548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419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04880" y="1430280"/>
            <a:ext cx="8569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mpactos – usos externo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Deliberação nº 40, de 2008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2502000"/>
            <a:ext cx="99061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952560" y="2571840"/>
            <a:ext cx="7983360" cy="3082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809640" y="1500120"/>
            <a:ext cx="8143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ustentabilidade financeira da entidade delegatária de funções de agência de águ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de cobranç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(Delib. CBHSF nº 45, de 200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2880" y="1341000"/>
            <a:ext cx="9633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s. 2º e 3º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: afirma que os valores das vazões mínimas firmes são 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0,29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6,11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Eixos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Lest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ort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respectivamente, </a:t>
            </a: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conforme NT ANA nº 390/2005/SOC, de 2005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36520" y="31417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36520" y="35751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2880" y="3214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NT 390/2005 :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essas foram vazões simulada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no âmbito do processo de análise da outorga (vazão firme do PISF é única: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26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12880" y="4551480"/>
            <a:ext cx="7704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As vazões reais a serem aduzidas em cada eixo somente serão conhecidas quando da operação do PISF, através dos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PGA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que serão elaborados peço Conselho Gestor do PISF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6520" y="43639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36520" y="47973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2880" y="1240560"/>
            <a:ext cx="96332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s. 2º e 3º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: são estabelecidos valores distintos do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K</a:t>
            </a:r>
            <a:r>
              <a:rPr b="1" lang="pt-BR" sz="2600" spc="-1" strike="noStrike" baseline="-25000">
                <a:solidFill>
                  <a:srgbClr val="800000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Eixos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Lest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ort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0,5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,0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respectivam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36520" y="258120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36520" y="301464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12880" y="2654280"/>
            <a:ext cx="7848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Duplicação da cobrança no Eixo Norte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 Ambos os Eixos atenderão demandas de atendimento prioritário segundo o CBHSF (Del. Nº 18/2004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2880" y="3976560"/>
            <a:ext cx="770400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ontraria o objetivo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que é diferenciar a cobrança por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prioridade de uso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ão por eixo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36520" y="378936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36520" y="422280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2000" y="5274000"/>
            <a:ext cx="9470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. 1º: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stabelece que poderá haver redução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(casos que atendam à Delib. CBHSF nº 18/2004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8520" y="2660760"/>
          <a:ext cx="9705960" cy="118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2660760"/>
                    <a:ext cx="970596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2"/>
          <p:cNvSpPr/>
          <p:nvPr/>
        </p:nvSpPr>
        <p:spPr>
          <a:xfrm>
            <a:off x="-376200" y="1630440"/>
            <a:ext cx="10282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otencial de Arrecadação PISF - (Deliberação nº 45, de 200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0880" y="39085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(acréscimo de 60% em relação à Del. 40/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352520" y="1914480"/>
          <a:ext cx="7128000" cy="15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914480"/>
                    <a:ext cx="712800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281240" y="4464000"/>
          <a:ext cx="7343640" cy="160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1240" y="4464000"/>
                    <a:ext cx="734364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2"/>
          <p:cNvSpPr/>
          <p:nvPr/>
        </p:nvSpPr>
        <p:spPr>
          <a:xfrm>
            <a:off x="560520" y="1413000"/>
            <a:ext cx="871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mpactos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– Eixo Leste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(Deliberação nº 45, de 200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560520" y="4006800"/>
            <a:ext cx="8713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mpactos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– Eixo Norte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(Deliberação nº 45, de 200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Conclusõ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8520" y="2536560"/>
            <a:ext cx="9632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Mecanism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e cobrança estabelecidos são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adequad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e os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valore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propostos são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compatíveis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m a capacidade de pagamento dos usuário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8520" y="3967200"/>
            <a:ext cx="95774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sta forma,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recomenda-se ao CNRH a aprovaçã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os mecanismos e valores de cobrança pelo uso de recursos hídricos sugeridos pelo CBHSF na sua Deliberação nº 40, de 2008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2120" y="184464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el. CBHSF nº 40, de 2008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72880" y="1557360"/>
            <a:ext cx="943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Introduçã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760" y="3500280"/>
            <a:ext cx="57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liberação CBHSF nº 40, de 2008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400" y="2693160"/>
            <a:ext cx="88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ciso VI, art. 4º da Lei nº 9.984, de 17 de julho de 2000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4520" y="43639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liberação CBHSF nº 45, de 2009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5800" y="52149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6 Condicionantes da Res. CNRH nº 48, de 2005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2880" y="1962360"/>
            <a:ext cx="928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s mecanismos de cobrança pelo uso de recursos hídricos propostos pelo CBHSF por meio da Deliberação nº 45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ão são adequad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tendo em vista qu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8120" y="3297240"/>
            <a:ext cx="815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Foi estabelecida uma vazão mínima firme a ser utilizada em cada eixo, quando, na verdade, a vazão firme outorgada pela ANA é única para os dois eixos. As vazões a serem aduzidas por eixo, bem como a sua repartição entre Estados e setores usuários, somente serão definidas no PGA do PISF, quando do início da operação do empreendiment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2120" y="131904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el. CBHSF nº 45, de 200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9240" y="35719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9240" y="40053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96880" y="1528920"/>
            <a:ext cx="8137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Foi estabelecido um valor de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diferenciado por eixos do PISF, sendo 0,5 para o Eixo Leste e 1,0 para o Eixo Norte, quando, na verdade, o objetivo do coeficiente é diferenciar a cobrança entre finalidades de uso (abastecimento humano, dessedentação animal, indústria, irrigação, etc...) e não entre eixos do PISF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0880" y="162720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0880" y="2060640"/>
            <a:ext cx="4316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2880" y="1595160"/>
            <a:ext cx="928872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Além disso, o CBHSF propôs que poderá haver redução do valor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usos de abastecimento humano e dessedentação animal, mas não definiu qual será a redução do valor do coefici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abe registrar, que a Deliberação nº 45 propõe, exclusivamente, regras para a cobrança do PISF, apesar de existirem as transposições operadas pela DES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1320" y="133668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ndições Res. CNRH nº  48, de 200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225360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Usos insignificantes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pende de aprovação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4520" y="353016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rocesso de regularização de usos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4520" y="4723920"/>
            <a:ext cx="956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rograma de investimentos definido no Plano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1320" y="133668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ndições Res. CNRH nº  48, de 200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520" y="212436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Aprovação pelo CNRH da proposta de cobrança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pende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4520" y="331164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Implantação da Agência ou Entidade Delegatária: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epende de proposição do CBHSF e aprovação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600" y="4449240"/>
            <a:ext cx="871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Elaboração por parte da ANA de estudos técnicos para subsidiar a proposta de metodologia de cobrança do CBHSF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72880" y="1677960"/>
            <a:ext cx="928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nclui-se, por fim, que das seis condições estabelecidas pela Resolução CNRH nº 48, de 2005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três já estão atendida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e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ua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referentes às propostas encaminhadas pelas Deliberações do CBHSF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ependem da aprovação do CNRH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 A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última condiçã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referente à implantação da Agência de Bacia Hidrográfica ou de entidade delegatária de suas funções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epende de proposição do CBHSF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97240" y="1916280"/>
            <a:ext cx="184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943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562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303120" y="1700280"/>
            <a:ext cx="5384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odrigo Flecha Ferreira Alv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Superintendente de Apoio à Gestão de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0520" y="836640"/>
            <a:ext cx="588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indent="363600">
              <a:lnSpc>
                <a:spcPct val="11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atrick Thom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Gerente de Cobrança pelo Uso de Recurso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9240" y="5156280"/>
            <a:ext cx="8425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Gerência de Cobrança pelo uso de Recursos Hídricos da Superintendência de Apoio à Gestão de Recursos Hídricos – GECOB/SA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Agência Nacional de Águas – AN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Setor Policial Sul – Área 5 – Quadra 3 – Bloco B - Brasília – DF – 70610-200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Tel: (61) 2109 – 543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www.ana.gov.br/CobrancaUs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520" y="2771640"/>
            <a:ext cx="424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iordano Bruno B. de Carvalh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laudio Pereir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láucia Maria Oliveir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4520" y="2771640"/>
            <a:ext cx="4032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racyreny R. dos Santo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eison de Figueiredo Lapor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atheus A. Rocha dos Santo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tagiário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52880" y="1341360"/>
            <a:ext cx="385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brigado pela Atenção 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72880" y="1413000"/>
            <a:ext cx="943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ahoma"/>
              </a:rPr>
              <a:t>Usos insignificant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637000"/>
          <a:ext cx="10137600" cy="227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37000"/>
                    <a:ext cx="10137600" cy="22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e valores de cobranç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(Delib. CBHSF nº 40, de 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776160" y="1341360"/>
            <a:ext cx="7921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073240" y="1916280"/>
            <a:ext cx="6624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de: 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31800" y="2246040"/>
            <a:ext cx="864252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cap classe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 classe de enquadramento do corpo d´água no qual se faz a captação;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t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s boas práticas de uso e conservação da águ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04880" y="3718080"/>
            <a:ext cx="79200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041560" y="436572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al: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– 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lanç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041560" y="494172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irrigação: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ons irri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041560" y="549288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76160" y="1962720"/>
            <a:ext cx="7201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B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,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anç F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776160" y="1386720"/>
            <a:ext cx="7921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C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anç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304812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03440" y="39841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Quando a vazão efetivamente utilizada for superior à vazão firme outorgada a qualquer tempo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631800" y="5505120"/>
            <a:ext cx="864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 prioridade de uso estabelecida no Plano de Recursos Hídricos da Bacia do Rio São Francisc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0" y="470376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04880" y="2492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ransposição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31800" y="1522440"/>
            <a:ext cx="66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Preços Unitári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95360" y="2421000"/>
          <a:ext cx="8915400" cy="2246400"/>
        </p:xfrm>
        <a:graphic>
          <a:graphicData uri="http://schemas.openxmlformats.org/drawingml/2006/table">
            <a:tbl>
              <a:tblPr/>
              <a:tblGrid>
                <a:gridCol w="4295880"/>
                <a:gridCol w="1406520"/>
                <a:gridCol w="1404720"/>
                <a:gridCol w="1808280"/>
              </a:tblGrid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ipo de us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nidad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 (R$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taçã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nçamento – DBO</a:t>
                      </a:r>
                      <a:r>
                        <a:rPr b="1" lang="en-US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,2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en-US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B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31800" y="1522440"/>
            <a:ext cx="66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Coeficient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95360" y="2060640"/>
          <a:ext cx="8915400" cy="3859200"/>
        </p:xfrm>
        <a:graphic>
          <a:graphicData uri="http://schemas.openxmlformats.org/drawingml/2006/table">
            <a:tbl>
              <a:tblPr/>
              <a:tblGrid>
                <a:gridCol w="4537080"/>
                <a:gridCol w="2555640"/>
                <a:gridCol w="1822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RM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LAS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cap clas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cons irri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4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t (para irrigação, criação animal e aqüicultura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t (demais setores usuários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lanç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prioridade (para abastecimento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704880" y="1487520"/>
            <a:ext cx="83534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otencial de Arrecadação Total (Deliberação nº 40, de 2008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04760" y="2023920"/>
            <a:ext cx="963468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55:44Z</dcterms:created>
  <dc:creator>Laboratorio de Hidrologia</dc:creator>
  <dc:description/>
  <dc:language>en-US</dc:language>
  <cp:lastModifiedBy>ANA</cp:lastModifiedBy>
  <cp:lastPrinted>2001-06-06T00:02:34Z</cp:lastPrinted>
  <dcterms:modified xsi:type="dcterms:W3CDTF">2010-02-24T18:14:11Z</dcterms:modified>
  <cp:revision>1371</cp:revision>
  <dc:subject/>
  <dc:title>Apresentação do PowerPoint</dc:title>
</cp:coreProperties>
</file>